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F239-1C10-4B38-B447-8FD89D94DC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9467-6DFC-4048-BAE3-ED62ABB4F8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89F-1362-4A73-B7B6-B40EA419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9E0-F480-49AD-8306-6E84676E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DD1-D2F0-4CE5-B9FD-6FF20D99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767-5629-4343-B5E5-9A98728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ED3-EA57-4B8A-B16D-E2552AC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079-504F-4F79-8BE2-608C9222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141-B97F-4A69-BCB8-88D07666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D3B5-AFEE-4496-AE6D-004BBE22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A03-67FE-4CB2-9FA3-D0BE9BF0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D5F-A54B-442A-AA12-C81ED14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608-9277-400B-A6B5-6352AF1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E14-186D-409C-85DC-27FDB30E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50000">
              <a:srgbClr val="ffff99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A871-4EE3-4385-B335-AAEF20ABEC1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00"/>
                </a:solidFill>
                <a:latin typeface="Arial"/>
              </a:rPr>
              <a:t>Visual Basic para Apl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34290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Conceptos bá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Elaborado p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Prof.: Eugenia Solano So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L.E.Bilingüe José Figueres Fer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Cart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57120" y="571680"/>
            <a:ext cx="3455640" cy="3312720"/>
            <a:chOff x="357120" y="571680"/>
            <a:chExt cx="3455640" cy="33127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357120" y="571680"/>
              <a:ext cx="3455640" cy="33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526680" y="15606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"/>
            <p:cNvSpPr/>
            <p:nvPr/>
          </p:nvSpPr>
          <p:spPr>
            <a:xfrm>
              <a:off x="1120320" y="1252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1575720" y="1261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005560" y="1261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2434680" y="1252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2886480" y="1270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492120" y="2007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928440" y="2007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1343880" y="2025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1906560" y="2316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2341080" y="2316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770560" y="229428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66280" y="27914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985320" y="28022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1456560" y="2796840"/>
              <a:ext cx="5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9"/>
          <p:cNvSpPr/>
          <p:nvPr/>
        </p:nvSpPr>
        <p:spPr>
          <a:xfrm>
            <a:off x="4214880" y="642960"/>
            <a:ext cx="3429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leccionar ob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tiqu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de 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comb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uadro de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asilla de ver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o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alter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M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coma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arra de tabu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ágina mú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arra de desplaz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Botón de núm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Insertar Formula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7"/>
          <p:cNvGrpSpPr/>
          <p:nvPr/>
        </p:nvGrpSpPr>
        <p:grpSpPr>
          <a:xfrm>
            <a:off x="1042920" y="4149720"/>
            <a:ext cx="1441080" cy="1098720"/>
            <a:chOff x="1042920" y="4149720"/>
            <a:chExt cx="1441080" cy="1098720"/>
          </a:xfrm>
        </p:grpSpPr>
        <p:pic>
          <p:nvPicPr>
            <p:cNvPr id="106" name="Picture 20" descr=""/>
            <p:cNvPicPr/>
            <p:nvPr/>
          </p:nvPicPr>
          <p:blipFill>
            <a:blip r:embed="rId2"/>
            <a:stretch/>
          </p:blipFill>
          <p:spPr>
            <a:xfrm>
              <a:off x="1042920" y="4149720"/>
              <a:ext cx="1441080" cy="8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1"/>
            <p:cNvSpPr/>
            <p:nvPr/>
          </p:nvSpPr>
          <p:spPr>
            <a:xfrm>
              <a:off x="1332720" y="4880160"/>
              <a:ext cx="101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2"/>
          <p:cNvSpPr/>
          <p:nvPr/>
        </p:nvSpPr>
        <p:spPr>
          <a:xfrm>
            <a:off x="4859280" y="344520"/>
            <a:ext cx="403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25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Cómo ingresar al editor de VB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42920" y="141300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ara ingresar al editor de VBA, es necesario tener una aplicaión del Office (Word, Excel, PowerPoint) abierta, y luego presionar la combinación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LT-F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268360" y="3305160"/>
            <a:ext cx="4391280" cy="3292560"/>
          </a:xfrm>
          <a:prstGeom prst="rect">
            <a:avLst/>
          </a:prstGeom>
          <a:ln w="0">
            <a:noFill/>
          </a:ln>
        </p:spPr>
      </p:pic>
      <p:sp>
        <p:nvSpPr>
          <p:cNvPr id="53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4360" y="54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Cómo alternar entre al editor de VBA y la aplic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42920" y="1844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ne varias opciones, entr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4000" y="254952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Utilizar el botón que se encuentra en la barra de herramientas, con el icono de la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364000" y="2492280"/>
            <a:ext cx="3171960" cy="3313080"/>
          </a:xfrm>
          <a:prstGeom prst="rect">
            <a:avLst/>
          </a:prstGeom>
          <a:ln w="0">
            <a:noFill/>
          </a:ln>
        </p:spPr>
      </p:pic>
      <p:sp>
        <p:nvSpPr>
          <p:cNvPr id="58" name="Oval 8"/>
          <p:cNvSpPr/>
          <p:nvPr/>
        </p:nvSpPr>
        <p:spPr>
          <a:xfrm>
            <a:off x="5580000" y="3500280"/>
            <a:ext cx="719280" cy="79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500720" y="3429000"/>
            <a:ext cx="107928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4000" y="44942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2400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Presionar la combinación de teclas ALT-F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1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Qué es un formul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451476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s un objeto que </a:t>
            </a:r>
            <a:r>
              <a:rPr b="0" i="1" lang="es-CR" sz="2800" spc="-1" strike="noStrike">
                <a:solidFill>
                  <a:srgbClr val="000000"/>
                </a:solidFill>
                <a:latin typeface="Arial"/>
              </a:rPr>
              <a:t>“permite crear ventanas en el proyecto”.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Se puede decir también, que es un contenedor o recipiente donde se colocan varios objetos como : etiquetas, cajas de texto, imágenes, botones, listas desplegab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4897440" cy="3116160"/>
          </a:xfrm>
          <a:prstGeom prst="rect">
            <a:avLst/>
          </a:prstGeom>
          <a:ln w="0">
            <a:noFill/>
          </a:ln>
        </p:spPr>
      </p:pic>
      <p:sp>
        <p:nvSpPr>
          <p:cNvPr id="66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4360" y="549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¿Qué son los objetos o contro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24000" y="155736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on todos los elementos que podemos incluir en el formulario, los cuales tienen propiedades o características propias de cada u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4572000" y="3214800"/>
            <a:ext cx="3544920" cy="3257280"/>
          </a:xfrm>
          <a:prstGeom prst="rect">
            <a:avLst/>
          </a:prstGeom>
          <a:ln w="0">
            <a:noFill/>
          </a:ln>
        </p:spPr>
      </p:pic>
      <p:sp>
        <p:nvSpPr>
          <p:cNvPr id="70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771560" cy="1886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Seleccionar obje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276720" y="2421000"/>
            <a:ext cx="532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irve para seleccionar los elementos, controles u objetos que se encuentran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Eti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55640" y="4581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e utiliza para insertar rótulos o textos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564000" y="1668600"/>
            <a:ext cx="1992240" cy="2192040"/>
          </a:xfrm>
          <a:prstGeom prst="rect">
            <a:avLst/>
          </a:prstGeom>
          <a:ln w="0">
            <a:noFill/>
          </a:ln>
        </p:spPr>
      </p:pic>
      <p:sp>
        <p:nvSpPr>
          <p:cNvPr id="78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Cuadro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55640" y="1557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Se utiliza para insertar cuadros o cajas de texto; se diferencian de las etiquetas porque su contenido se puede modificar mientras la aplicación se esté ejecut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3419640" y="4518000"/>
            <a:ext cx="2197080" cy="2006640"/>
          </a:xfrm>
          <a:prstGeom prst="rect">
            <a:avLst/>
          </a:prstGeom>
          <a:ln w="0">
            <a:noFill/>
          </a:ln>
        </p:spPr>
      </p:pic>
      <p:sp>
        <p:nvSpPr>
          <p:cNvPr id="82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Arial"/>
              </a:rPr>
              <a:t>Ima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24360" y="2811600"/>
            <a:ext cx="453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Permite insertar imágenes en el formul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2073600" cy="2433600"/>
          </a:xfrm>
          <a:prstGeom prst="rect">
            <a:avLst/>
          </a:prstGeom>
          <a:ln w="0">
            <a:noFill/>
          </a:ln>
        </p:spPr>
      </p:pic>
      <p:sp>
        <p:nvSpPr>
          <p:cNvPr id="86" name="6 Rectángulo"/>
          <p:cNvSpPr/>
          <p:nvPr/>
        </p:nvSpPr>
        <p:spPr>
          <a:xfrm rot="16200000">
            <a:off x="5602320" y="3315600"/>
            <a:ext cx="680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Prof.: Eugenia Solano Solano – LEBJFF  / Campamento III Ciclo Informática Educativa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29:04Z</dcterms:created>
  <dc:creator>}</dc:creator>
  <dc:description/>
  <dc:language>en-US</dc:language>
  <cp:lastModifiedBy>andres</cp:lastModifiedBy>
  <dcterms:modified xsi:type="dcterms:W3CDTF">2008-05-27T16:02:46Z</dcterms:modified>
  <cp:revision>23</cp:revision>
  <dc:subject/>
  <dc:title>Diapositiva 1</dc:title>
</cp:coreProperties>
</file>